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EDC-D88C-4310-8965-BDB3842E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D66-9063-481F-ACE2-B1EC660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4C0-F2F6-46D3-8348-859292E9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2B6-0003-48E5-B558-ABDA4395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D6F-C3E1-42AC-A90B-97136EA1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7E5-48EA-4518-8DEC-3357F8A4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926-49F9-4494-BE78-3949B48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6DD-AEF5-4B8F-A7C6-7B1FFDA1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517-0E08-4EB8-B36C-0786F3AC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AEA-E217-4388-A808-A853C848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195-DBE9-4095-ACA2-F6BB51CD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FCF-30F8-474D-B01F-4A94B1B1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6FFB-0360-4467-AE0B-B50315660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en.wikipedia.org/wiki/File:Tutankhamen_map_Valle_Re_Nilo_space_STS026-041-058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en.wikipedia.org/wiki/Valley_of_the_Kings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0"/>
            <a:ext cx="5105520" cy="70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da Oct. 17 &amp; 18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inish Cartouche  *Bring sack lunch on Wed.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685800"/>
            <a:ext cx="4572000" cy="326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0-17 &amp; 1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rain was scarce in Egypt, how did farmers water their crops along the Nile R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mers used a ______________ to scoop water into their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year the Nile flooded its banks.  What was the rich, black mud that remained after the Nile’s flood waters reced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shadouf"/>
          <p:cNvPicPr/>
          <p:nvPr/>
        </p:nvPicPr>
        <p:blipFill>
          <a:blip r:embed="rId1"/>
          <a:stretch/>
        </p:blipFill>
        <p:spPr>
          <a:xfrm>
            <a:off x="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Nile_Boys"/>
          <p:cNvPicPr/>
          <p:nvPr/>
        </p:nvPicPr>
        <p:blipFill>
          <a:blip r:embed="rId2"/>
          <a:stretch/>
        </p:blipFill>
        <p:spPr>
          <a:xfrm>
            <a:off x="5095800" y="0"/>
            <a:ext cx="4048200" cy="249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egypt"/>
          <p:cNvPicPr/>
          <p:nvPr/>
        </p:nvPicPr>
        <p:blipFill>
          <a:blip r:embed="rId3"/>
          <a:srcRect l="36943" t="30600" r="0" b="40611"/>
          <a:stretch/>
        </p:blipFill>
        <p:spPr>
          <a:xfrm>
            <a:off x="5810400" y="2470320"/>
            <a:ext cx="2798640" cy="1519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8"/>
          <p:cNvSpPr/>
          <p:nvPr/>
        </p:nvSpPr>
        <p:spPr>
          <a:xfrm>
            <a:off x="2112840" y="1665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2533320" y="20480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hado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ypt_river_nile"/>
          <p:cNvPicPr/>
          <p:nvPr/>
        </p:nvPicPr>
        <p:blipFill>
          <a:blip r:embed="rId4"/>
          <a:srcRect l="0" t="0" r="5884" b="0"/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2365200" y="36576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A map of ancient Egypt geography."/>
          <p:cNvPicPr/>
          <p:nvPr/>
        </p:nvPicPr>
        <p:blipFill>
          <a:blip r:embed="rId1"/>
          <a:stretch/>
        </p:blipFill>
        <p:spPr>
          <a:xfrm>
            <a:off x="1676520" y="0"/>
            <a:ext cx="58989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upload.wikimedia.org/wikipedia/commons/thumb/d/d7/Tutankhamen_map_Valle_Re_Nilo_space_STS026-041-058.jpg/275px-Tutankhamen_map_Valle_Re_Nilo_space_STS026-041-05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6"/>
          <p:cNvCxnSpPr/>
          <p:nvPr/>
        </p:nvCxnSpPr>
        <p:spPr>
          <a:xfrm flipH="1">
            <a:off x="1675800" y="4951800"/>
            <a:ext cx="3277080" cy="129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Action Button: Information 7">
            <a:hlinkClick r:id="rId4"/>
          </p:cNvPr>
          <p:cNvSpPr/>
          <p:nvPr/>
        </p:nvSpPr>
        <p:spPr>
          <a:xfrm>
            <a:off x="81532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06" h="21600">
                <a:moveTo>
                  <a:pt x="135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06" h="21600">
                <a:moveTo>
                  <a:pt x="10927" y="8224"/>
                </a:moveTo>
                <a:lnTo>
                  <a:pt x="14791" y="8224"/>
                </a:lnTo>
                <a:lnTo>
                  <a:pt x="14791" y="15221"/>
                </a:lnTo>
                <a:lnTo>
                  <a:pt x="16079" y="15221"/>
                </a:lnTo>
                <a:lnTo>
                  <a:pt x="16079" y="16144"/>
                </a:lnTo>
                <a:lnTo>
                  <a:pt x="10927" y="16144"/>
                </a:lnTo>
                <a:lnTo>
                  <a:pt x="10927" y="15221"/>
                </a:lnTo>
                <a:lnTo>
                  <a:pt x="12215" y="15221"/>
                </a:lnTo>
                <a:lnTo>
                  <a:pt x="12215" y="9129"/>
                </a:lnTo>
                <a:lnTo>
                  <a:pt x="10927" y="91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Valley of the Kings"/>
          <p:cNvPicPr/>
          <p:nvPr/>
        </p:nvPicPr>
        <p:blipFill>
          <a:blip r:embed="rId1"/>
          <a:stretch/>
        </p:blipFill>
        <p:spPr>
          <a:xfrm>
            <a:off x="1600200" y="3581280"/>
            <a:ext cx="7543800" cy="327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ley of 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1752480" y="586692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8660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l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7543440" y="419112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The Wedjat - later called The Eye of Horus"/>
          <p:cNvPicPr/>
          <p:nvPr/>
        </p:nvPicPr>
        <p:blipFill>
          <a:blip r:embed="rId2"/>
          <a:stretch/>
        </p:blipFill>
        <p:spPr>
          <a:xfrm>
            <a:off x="3581280" y="3886200"/>
            <a:ext cx="648000" cy="4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eye-of-horus-backdrop"/>
          <p:cNvPicPr/>
          <p:nvPr/>
        </p:nvPicPr>
        <p:blipFill>
          <a:blip r:embed="rId3"/>
          <a:stretch/>
        </p:blipFill>
        <p:spPr>
          <a:xfrm>
            <a:off x="3048120" y="76212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743200" y="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Valley of the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:Ägypten Tal der Könige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omb Entrances"/>
          <p:cNvPicPr/>
          <p:nvPr/>
        </p:nvPicPr>
        <p:blipFill>
          <a:blip r:embed="rId2"/>
          <a:stretch/>
        </p:blipFill>
        <p:spPr>
          <a:xfrm>
            <a:off x="3276720" y="3048120"/>
            <a:ext cx="58672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029200" y="144792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b Entr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Is Tutankhamun’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45720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Center Is Ramses 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7467480" y="2057400"/>
            <a:ext cx="53352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819520" y="4800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419720" y="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 Of Theb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2666880" y="380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2120" y="609480"/>
            <a:ext cx="3733560" cy="72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Use the key to write your name in hieroglyphics.  Write your first name on one cartouche and your last name on another cartouche. OR , if your name is short, you may write it on ONE carto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olor the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Then cut it out—NO white showing—and paste it to colored paper—side by side.  Print your name with the Sharpie very neatly UNDER the carto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Cartouche"/>
          <p:cNvPicPr/>
          <p:nvPr/>
        </p:nvPicPr>
        <p:blipFill>
          <a:blip r:embed="rId1"/>
          <a:srcRect l="28585" t="18766" r="24555" b="25066"/>
          <a:stretch/>
        </p:blipFill>
        <p:spPr>
          <a:xfrm>
            <a:off x="5867280" y="1371600"/>
            <a:ext cx="240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0:36:53Z</dcterms:created>
  <dc:creator>Selena Ramsey</dc:creator>
  <dc:description/>
  <dc:language>en-US</dc:language>
  <cp:lastModifiedBy>poweruser</cp:lastModifiedBy>
  <dcterms:modified xsi:type="dcterms:W3CDTF">2011-10-17T12:47:16Z</dcterms:modified>
  <cp:revision>608</cp:revision>
  <dc:subject/>
  <dc:title>Agenda Oct. 13, 2005</dc:title>
</cp:coreProperties>
</file>